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407F-9453-417C-8211-85F4DA0D4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CEC7-C215-4713-8E7D-28C0DA5A0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FC7B-7DF6-42DA-8D5A-42E5896AB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4DBF-BB8F-46BA-B529-0D4D8BE7D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C922-61F0-4808-8DDE-5E18724A2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C858-5F23-401E-A090-F93802D22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A18B-8770-482A-9BC5-2B8CD88A2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7585-607B-4207-A58F-0B529A251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3430-4183-47D2-8D0D-0D105C774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31FF-480A-4170-AF99-D11721CE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A71C-ED1D-40F1-BF6E-3847FB46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C5D5-8721-4940-B133-C9AD89DEC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3D18F-98F0-4E73-B1D6-CC207B2B0A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ei_enroute_1 byai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enior Class Advis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Calibri"/>
              </a:rPr>
              <a:t>Your Ticket to the Fu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sei_enroute_3breakaway.jpg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enior Class Advis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lege: Scholarship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sonal Finance: ready for the real wor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ivic Responsibility: ready for the real wor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IMS Sup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nior “Stuff” (stadium picture, Grad Night, class meeting, senior class gif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asically, your farewell to CDO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sei_enroute_3breakaway.jpg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nior Class Gif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enior class gift is a gift to the school to say “thank you” and to leave a legacy from your cla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e past senior gifts have included: a flag, a bench,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 would you like your legacy to b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253f"/>
                </a:solidFill>
                <a:latin typeface="Calibri"/>
              </a:rPr>
              <a:t>Your Advisory teacher will submit your list of ideas to Student Government, there will be more information in future advisories about voting on the gift, and fund rais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5T13:06:43Z</dcterms:created>
  <dc:creator>admin</dc:creator>
  <dc:description/>
  <dc:language>en-US</dc:language>
  <cp:lastModifiedBy>ASD</cp:lastModifiedBy>
  <dcterms:modified xsi:type="dcterms:W3CDTF">2011-06-06T17:09:07Z</dcterms:modified>
  <cp:revision>3</cp:revision>
  <dc:subject/>
  <dc:title>Senior Class Advisory</dc:title>
</cp:coreProperties>
</file>